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16E9-6FAC-4C07-9516-3FEC339DA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79280" y="38325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E470E-D9A2-4928-BAF9-B0F846FAA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144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FF649-9ECD-4BB5-9D6C-905F6DE9E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4964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0000" y="11253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7928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4964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20000" y="3832560"/>
            <a:ext cx="282852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3A4B-59CC-474C-916F-AC33455AB3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84604-6D48-4943-A73D-4195EA8D96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56BD6-2537-4556-BD53-FDBAA528A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EC3B5-DF1F-4829-8C94-267663E06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43E30-5734-440C-8C77-B6F60D8AA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9280" y="115920"/>
            <a:ext cx="78487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66E47-96BC-4AFB-90EE-1EFFEEA18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540D5-4E8A-4FB8-8C46-0C2BA5100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1440" y="38325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F5322-A942-4200-8673-95ECB4471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125360"/>
            <a:ext cx="42872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9280" y="3832560"/>
            <a:ext cx="878544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A336-57DB-42AC-9469-31CA57208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78920" y="6453000"/>
            <a:ext cx="813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88000" y="6453000"/>
            <a:ext cx="57636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B762-9FF7-4098-8165-2779B25EC1A6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8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Multithreading in Visual FoxPro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73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Christof Wollenhau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00"/>
                </a:solidFill>
                <a:latin typeface="Tahoma"/>
              </a:rPr>
              <a:t>Foxp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8900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Verdana"/>
              </a:rPr>
              <a:t>D-MU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37372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taten: Visual FoxPro, Konservierungsmittel Registry, MTDLL, Geschmacksverstärker Interprocess Communication (IPC). Achtung: Kann Spuren von C++ enth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Synchronisieru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vents: Etwas ist passiert, kann gescheh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UTEX: Exklusiven Zugriff absich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atenaustausch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ile Mapping: Gemeinsam genutzter Speicherbereich mit einem Na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amed Pipe: Nachrichten (Befehl) an andere Threads oder Prozesse schi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ie Realitä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ynchrone Named Pipes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nchronisierung schwer zu tes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usfallsicherheit herste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eadlocks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reads sauber herunterfah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egistrierung der MTDLL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Noch Fragen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348768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51280" y="1700280"/>
            <a:ext cx="48974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hristof.Wollenhaupt@foxper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bse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ttp://www.foxper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schr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pmannsweg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22846 Norderste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lef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040 / 682670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zur Pers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lbständiger Entwickler in Norderstedt mit Schwerpunkt FoxP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FoxPro Erfahrung seit FoxPro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crosoft Certified Developer (MC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icrosoft MVP 1997-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 95 Artikel im FoxPro Adviso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sop im CompuServe Fo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Email:Christof.Wollenhaupt@foxpert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ieser Vortra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s ist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ie geht d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ozu brauche ich da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ttp://www.foxpert.com/dmult.z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Multithread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Unterschiede zu Prozes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reateThread() API Funk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TD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part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MULT.DL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ilfsbibliothek in Visual C++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Marsha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Objektreferenzen überg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Wozu, weshalb, wann nicht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Langwierige Prozesse in der Oberflä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Timerersat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bzubrechende SELECT Abfr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Daten im Voraus 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Überprüfung auf Änder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richte dru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Importaufga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Ressourcenauslastung optim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Kommunik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Prozessübergreifende Kommunikation (IP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COM Aufruf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Das ist wichtig…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Asynchrone Ausfüh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lockieren von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Beenden von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ynchronisierung not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eparate Instan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Kommunikation aufwend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78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API Objekt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Namen (Local\, Global\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Hand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Signalisie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ahoma"/>
              </a:rPr>
              <a:t>Wartefunkti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7:28:00Z</dcterms:created>
  <dc:creator>Christof Lange</dc:creator>
  <dc:description/>
  <dc:language>en-US</dc:language>
  <cp:lastModifiedBy>Christof</cp:lastModifiedBy>
  <dcterms:modified xsi:type="dcterms:W3CDTF">2005-11-12T08:03:14Z</dcterms:modified>
  <cp:revision>100</cp:revision>
  <dc:subject/>
  <dc:title>D-BIND</dc:title>
</cp:coreProperties>
</file>